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7881-2011-4063-BC05-CA365A3BD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C3EB-0474-44BC-B510-9A0EF0BC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EA86-F61C-473D-9680-F7054730A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9D1E-F700-4334-BEE6-012E9928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EAC8-95D7-4C34-B1C9-93ACCACB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3725-A96F-4673-9F81-98E6D2A0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E575-8551-474A-8AA5-1F0BBAAD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DE5B-07E0-4FCB-BE70-0BCA7409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133C-A1C6-411F-A6B8-DA6F51CC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60F1-FF3A-4FF8-B8F4-5AAFEB6E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BC08-829C-438D-8564-349A0A61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DC50-D212-41C9-8161-20717DAE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7B62-C12E-468F-8BE9-6E48179B4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3300"/>
                </a:solidFill>
                <a:latin typeface="Times New Roman"/>
              </a:rPr>
              <a:t>Roo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Pages 578; 584 - 58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50292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66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How old is the tree to the right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12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2.  In which year were the climatic conditions poor?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</a:t>
            </a:r>
            <a:r>
              <a:rPr b="0" lang="en-US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7</a:t>
            </a:r>
            <a:r>
              <a:rPr b="0" lang="en-US" sz="3600" spc="-1" strike="noStrike" baseline="30000">
                <a:solidFill>
                  <a:srgbClr val="663300"/>
                </a:solidFill>
                <a:latin typeface="Times New Roman"/>
                <a:ea typeface="Times New Roman"/>
              </a:rPr>
              <a:t>th</a:t>
            </a:r>
            <a:r>
              <a:rPr b="0" lang="en-US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year (narrow rin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791320" y="1447920"/>
            <a:ext cx="3352680" cy="32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3.  Is there any place were tree rings would not be produced?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</a:t>
            </a:r>
            <a:r>
              <a:rPr b="0" lang="en-US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Where?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</a:t>
            </a:r>
            <a:r>
              <a:rPr b="0" lang="en-US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Tropical areas have a constant climate therefore there is no real “growing season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Functions of Roots: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1.  anchor plants to so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2.  absorb water and nutri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3.  store nutrients (in some plants such as carrots, beets, and radish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Root Adaptations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04920" y="3413160"/>
            <a:ext cx="8229600" cy="2472120"/>
            <a:chOff x="304920" y="3413160"/>
            <a:chExt cx="8229600" cy="2472120"/>
          </a:xfrm>
        </p:grpSpPr>
        <p:sp>
          <p:nvSpPr>
            <p:cNvPr id="48" name=""/>
            <p:cNvSpPr/>
            <p:nvPr/>
          </p:nvSpPr>
          <p:spPr>
            <a:xfrm>
              <a:off x="914400" y="5257800"/>
              <a:ext cx="53341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663300"/>
                  </a:solidFill>
                  <a:latin typeface="Times New Roman"/>
                </a:rPr>
                <a:t>away by heavy rain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4648320"/>
              <a:ext cx="76201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663300"/>
                  </a:solidFill>
                  <a:latin typeface="Times New Roman"/>
                </a:rPr>
                <a:t>ground; prevents soil from being washed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14400" y="4022640"/>
              <a:ext cx="754380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663300"/>
                  </a:solidFill>
                  <a:latin typeface="Times New Roman"/>
                </a:rPr>
                <a:t>sizes that do not grow very deep into the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3413160"/>
              <a:ext cx="777240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663300"/>
                  </a:solidFill>
                  <a:latin typeface="Times New Roman"/>
                </a:rPr>
                <a:t>2.  </a:t>
              </a:r>
              <a:r>
                <a:rPr b="1" lang="en-US" sz="3500" spc="-1" strike="noStrike">
                  <a:solidFill>
                    <a:srgbClr val="663300"/>
                  </a:solidFill>
                  <a:latin typeface="Times New Roman"/>
                </a:rPr>
                <a:t>fibrous roots</a:t>
              </a:r>
              <a:r>
                <a:rPr b="0" lang="en-US" sz="3500" spc="-1" strike="noStrike">
                  <a:solidFill>
                    <a:srgbClr val="663300"/>
                  </a:solidFill>
                  <a:latin typeface="Times New Roman"/>
                </a:rPr>
                <a:t> – many roots of similar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04920" y="1676520"/>
            <a:ext cx="8305560" cy="1236960"/>
            <a:chOff x="304920" y="1676520"/>
            <a:chExt cx="8305560" cy="1236960"/>
          </a:xfrm>
        </p:grpSpPr>
        <p:sp>
          <p:nvSpPr>
            <p:cNvPr id="53" name=""/>
            <p:cNvSpPr/>
            <p:nvPr/>
          </p:nvSpPr>
          <p:spPr>
            <a:xfrm>
              <a:off x="304920" y="1676520"/>
              <a:ext cx="830556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663300"/>
                  </a:solidFill>
                  <a:latin typeface="Times New Roman"/>
                </a:rPr>
                <a:t>1.  </a:t>
              </a:r>
              <a:r>
                <a:rPr b="1" lang="en-US" sz="3500" spc="-1" strike="noStrike">
                  <a:solidFill>
                    <a:srgbClr val="663300"/>
                  </a:solidFill>
                  <a:latin typeface="Times New Roman"/>
                </a:rPr>
                <a:t>taproots</a:t>
              </a:r>
              <a:r>
                <a:rPr b="0" lang="en-US" sz="3500" spc="-1" strike="noStrike">
                  <a:solidFill>
                    <a:srgbClr val="663300"/>
                  </a:solidFill>
                  <a:latin typeface="Times New Roman"/>
                </a:rPr>
                <a:t> – one long, thick root that can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2286000"/>
              <a:ext cx="769644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663300"/>
                  </a:solidFill>
                  <a:latin typeface="Times New Roman"/>
                </a:rPr>
                <a:t>reach water far below the Earth’s surface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Root Adaptations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04920" y="1676520"/>
            <a:ext cx="8305560" cy="1999080"/>
            <a:chOff x="304920" y="1676520"/>
            <a:chExt cx="8305560" cy="1999080"/>
          </a:xfrm>
        </p:grpSpPr>
        <p:sp>
          <p:nvSpPr>
            <p:cNvPr id="57" name=""/>
            <p:cNvSpPr/>
            <p:nvPr/>
          </p:nvSpPr>
          <p:spPr>
            <a:xfrm>
              <a:off x="304920" y="1676520"/>
              <a:ext cx="830556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663300"/>
                  </a:solidFill>
                  <a:latin typeface="Times New Roman"/>
                </a:rPr>
                <a:t>3.  </a:t>
              </a:r>
              <a:r>
                <a:rPr b="1" lang="en-US" sz="3500" spc="-1" strike="noStrike">
                  <a:solidFill>
                    <a:srgbClr val="663300"/>
                  </a:solidFill>
                  <a:latin typeface="Times New Roman"/>
                </a:rPr>
                <a:t>root hairs</a:t>
              </a:r>
              <a:r>
                <a:rPr b="0" lang="en-US" sz="3500" spc="-1" strike="noStrike">
                  <a:solidFill>
                    <a:srgbClr val="663300"/>
                  </a:solidFill>
                  <a:latin typeface="Times New Roman"/>
                </a:rPr>
                <a:t> - increase the surface area of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080" y="3048120"/>
              <a:ext cx="55627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663300"/>
                  </a:solidFill>
                  <a:latin typeface="Times New Roman"/>
                </a:rPr>
                <a:t>more water and nutrients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38080" y="2362320"/>
              <a:ext cx="754380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663300"/>
                  </a:solidFill>
                  <a:latin typeface="Times New Roman"/>
                </a:rPr>
                <a:t>the root allowing the root to absorb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54416" b="22305"/>
          <a:stretch/>
        </p:blipFill>
        <p:spPr>
          <a:xfrm>
            <a:off x="1600200" y="990720"/>
            <a:ext cx="6248520" cy="4446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410080" y="4648320"/>
            <a:ext cx="17002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63300"/>
                </a:solidFill>
                <a:latin typeface="Times New Roman"/>
              </a:rPr>
              <a:t>taproo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4724280"/>
            <a:ext cx="15447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63300"/>
                </a:solidFill>
                <a:latin typeface="Times New Roman"/>
              </a:rPr>
              <a:t>fibrou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971800" y="3808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8120" y="685800"/>
            <a:ext cx="2786040" cy="5016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V="1">
            <a:off x="5410080" y="1752480"/>
            <a:ext cx="381240" cy="27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1447920"/>
            <a:ext cx="21333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oot hai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495680" y="837720"/>
            <a:ext cx="1067040" cy="4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533520"/>
            <a:ext cx="19047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xyl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419720" y="665280"/>
            <a:ext cx="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22860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hlo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5638680"/>
            <a:ext cx="3733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63300"/>
                </a:solidFill>
                <a:latin typeface="Times New Roman"/>
              </a:rPr>
              <a:t>root (magnified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3300"/>
                </a:solidFill>
                <a:latin typeface="Times New Roman"/>
              </a:rPr>
              <a:t>Ste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Pages 578; 589 - 59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Functions of Stems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3400560"/>
            <a:ext cx="7696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2.  supports leaves, flowers, &amp; frui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09480" y="1371600"/>
            <a:ext cx="7696440" cy="1923120"/>
            <a:chOff x="609480" y="1371600"/>
            <a:chExt cx="7696440" cy="1923120"/>
          </a:xfrm>
        </p:grpSpPr>
        <p:sp>
          <p:nvSpPr>
            <p:cNvPr id="77" name=""/>
            <p:cNvSpPr/>
            <p:nvPr/>
          </p:nvSpPr>
          <p:spPr>
            <a:xfrm>
              <a:off x="1219320" y="2667240"/>
              <a:ext cx="685800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663300"/>
                  </a:solidFill>
                  <a:latin typeface="Times New Roman"/>
                  <a:ea typeface="Times New Roman"/>
                </a:rPr>
                <a:t>the roots and leaves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219320" y="2057400"/>
              <a:ext cx="708660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663300"/>
                  </a:solidFill>
                  <a:latin typeface="Times New Roman"/>
                  <a:ea typeface="Times New Roman"/>
                </a:rPr>
                <a:t>that transport substances between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480" y="1371600"/>
              <a:ext cx="723924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663300"/>
                  </a:solidFill>
                  <a:latin typeface="Times New Roman"/>
                  <a:ea typeface="Times New Roman"/>
                </a:rPr>
                <a:t>1.  contain vascular tissues (veins)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609480" y="5429160"/>
            <a:ext cx="7391520" cy="1137240"/>
            <a:chOff x="609480" y="5429160"/>
            <a:chExt cx="7391520" cy="1137240"/>
          </a:xfrm>
        </p:grpSpPr>
        <p:sp>
          <p:nvSpPr>
            <p:cNvPr id="81" name=""/>
            <p:cNvSpPr/>
            <p:nvPr/>
          </p:nvSpPr>
          <p:spPr>
            <a:xfrm>
              <a:off x="609480" y="5429160"/>
              <a:ext cx="73915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663300"/>
                  </a:solidFill>
                  <a:latin typeface="Times New Roman"/>
                  <a:ea typeface="Times New Roman"/>
                </a:rPr>
                <a:t>4.  stores nutrients (in some plants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219320" y="5938920"/>
              <a:ext cx="490536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663300"/>
                  </a:solidFill>
                  <a:latin typeface="Times New Roman"/>
                </a:rPr>
                <a:t>such as potatoes)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593640" y="4194000"/>
            <a:ext cx="7391520" cy="1269000"/>
            <a:chOff x="593640" y="4194000"/>
            <a:chExt cx="7391520" cy="1269000"/>
          </a:xfrm>
        </p:grpSpPr>
        <p:sp>
          <p:nvSpPr>
            <p:cNvPr id="84" name=""/>
            <p:cNvSpPr/>
            <p:nvPr/>
          </p:nvSpPr>
          <p:spPr>
            <a:xfrm>
              <a:off x="593640" y="4194000"/>
              <a:ext cx="73915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663300"/>
                  </a:solidFill>
                  <a:latin typeface="Times New Roman"/>
                  <a:ea typeface="Times New Roman"/>
                </a:rPr>
                <a:t>3.  photosynthetic (in some plants such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219320" y="4835520"/>
              <a:ext cx="526896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663300"/>
                  </a:solidFill>
                  <a:latin typeface="Times New Roman"/>
                </a:rPr>
                <a:t>as cactus)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8048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ndrochronolog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the study of annual rings in tre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the end of each growing season, the older xylem cells near the center of the stem (trunk) no longer functions and becomes darker in color because it accumulates impurities; this can often be observed as tree rings.  Not only can the tree rings determine the age of a tree but they can also help determine past climates.  A wide ring indicates a good growing season whereas a narrow ring indicates a year in which climatic conditions were poor (little rain or colder than normal temperatures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8T20:19:15Z</dcterms:created>
  <dc:creator>Plano ISD</dc:creator>
  <dc:description/>
  <dc:language>en-US</dc:language>
  <cp:lastModifiedBy>Plano ISD</cp:lastModifiedBy>
  <dcterms:modified xsi:type="dcterms:W3CDTF">2005-02-21T14:41:35Z</dcterms:modified>
  <cp:revision>8</cp:revision>
  <dc:subject/>
  <dc:title>Roots &amp; Stems</dc:title>
</cp:coreProperties>
</file>